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A10D-C750-481B-B9DF-F56B8ED9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AD3-82DF-4374-B38C-89F698BD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D515-C5A0-4F90-83E5-EDBBE3F2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5A2-B1F8-4C72-BDB1-05F69CB4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B53C-51FC-4905-B2A3-3F7FA8CB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D8B9-206F-4F11-ADD9-B7AC626F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D7DA-486A-4034-A276-20CB5F12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50F8-DBF1-4036-8BD4-19273CA7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8C69-2A3E-434C-823C-AC3BCB36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2EE9-C414-4C0F-98B6-C45B19B3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1BA3-D0D8-4EFE-B03E-A87E6BF1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6E6F-4238-404F-BA56-0744DFEFC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859A-A6D8-46DC-AF90-18EDB170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0F3B-7333-4AE6-B350-21C90549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B882-3508-420C-80CA-ED8D2A8C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D0AF-4173-4CA5-8F0C-ED44346D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31380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41440" y="2014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31380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41440" y="4164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B45C-C0C9-4656-B853-DA1564D0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B1EA-5901-468D-8679-41C7C46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4C5-C0DB-4708-8F8F-4CB60D1A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1F0A-E43D-46C6-97B4-59BA46F8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653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D583-A525-48E4-A1C2-4BB8917A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595-6868-4DA9-9BF9-D96E4094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64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24C1-F6A2-4FEA-AECB-493D985F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2014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64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8195-4345-4C0B-B7E0-64349107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3680" y="465120"/>
              <a:ext cx="8745120" cy="223920"/>
              <a:chOff x="193680" y="46512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3680" y="46512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5080" y="52884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5680" y="374760"/>
              <a:ext cx="8745120" cy="223560"/>
              <a:chOff x="85680" y="374760"/>
              <a:chExt cx="8745120" cy="223560"/>
            </a:xfrm>
          </p:grpSpPr>
          <p:sp>
            <p:nvSpPr>
              <p:cNvPr id="87" name=""/>
              <p:cNvSpPr/>
              <p:nvPr/>
            </p:nvSpPr>
            <p:spPr>
              <a:xfrm>
                <a:off x="85680" y="37476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7080" y="43848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7320" y="468360"/>
              <a:ext cx="137448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9240" y="146160"/>
              <a:ext cx="1253880" cy="1164960"/>
              <a:chOff x="219240" y="146160"/>
              <a:chExt cx="1253880" cy="1164960"/>
            </a:xfrm>
          </p:grpSpPr>
          <p:sp>
            <p:nvSpPr>
              <p:cNvPr id="91" name=""/>
              <p:cNvSpPr/>
              <p:nvPr/>
            </p:nvSpPr>
            <p:spPr>
              <a:xfrm>
                <a:off x="219240" y="159120"/>
                <a:ext cx="1253880" cy="11520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1920" y="165960"/>
                <a:ext cx="282960" cy="84564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6160"/>
                <a:ext cx="1063080" cy="27756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440" y="453240"/>
                <a:ext cx="68184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1040" y="371880"/>
                <a:ext cx="406080" cy="40176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80808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816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1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B1A7-DD90-4D80-BD48-C90319A5A3DE}" type="slidenum"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720" y="-293400"/>
            <a:ext cx="9765000" cy="7676280"/>
            <a:chOff x="-46872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720" y="-293400"/>
              <a:ext cx="9765000" cy="7676280"/>
              <a:chOff x="-46872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0680" y="474660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732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440" y="5648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000" y="29052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560" y="327528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600" y="30078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24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440" y="476244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51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1976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5680" y="48682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52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0120" y="374328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600" y="43340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8920" y="409284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2640" y="47674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440" y="3102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480" y="3262320"/>
                <a:ext cx="10900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7000" y="318564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9160" y="535644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520" y="591696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600" y="55882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000" y="460800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499400" y="3238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488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600" y="1381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60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440" y="-3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480" y="15732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376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16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400" y="1511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440" y="232272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60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5240" y="150264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2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280" y="1381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7960" y="73980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3640" y="1776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120" y="258768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480" y="-3240"/>
                <a:ext cx="8488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16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320" y="80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8680" y="170208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12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1640" y="1502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560"/>
                <a:ext cx="10155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1840" y="37800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640"/>
                <a:ext cx="109008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636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120" y="1790640"/>
                <a:ext cx="103140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080" y="2506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040" y="381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5680" y="-7632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32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240" y="15066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440" y="5099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4920" y="25545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564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0960" y="14400"/>
                <a:ext cx="10155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88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8920" y="4691520"/>
                <a:ext cx="1090800" cy="96624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636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120" y="5143680"/>
                <a:ext cx="103140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5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200" y="32385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880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880" y="5848560"/>
                <a:ext cx="84888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160" y="5069160"/>
                <a:ext cx="1374480" cy="126180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680"/>
                <a:ext cx="1272960" cy="11203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9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200" y="384012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 rot="17967600">
              <a:off x="356760" y="3306960"/>
              <a:ext cx="1782720" cy="16365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228600" y="3525840"/>
              <a:ext cx="8745120" cy="223920"/>
              <a:chOff x="228600" y="3525840"/>
              <a:chExt cx="8745120" cy="223920"/>
            </a:xfrm>
          </p:grpSpPr>
          <p:sp>
            <p:nvSpPr>
              <p:cNvPr id="222" name=""/>
              <p:cNvSpPr/>
              <p:nvPr/>
            </p:nvSpPr>
            <p:spPr>
              <a:xfrm>
                <a:off x="228600" y="35258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70000" y="35895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20600" y="3435480"/>
              <a:ext cx="8745120" cy="223560"/>
              <a:chOff x="120600" y="3435480"/>
              <a:chExt cx="8745120" cy="223560"/>
            </a:xfrm>
          </p:grpSpPr>
          <p:sp>
            <p:nvSpPr>
              <p:cNvPr id="225" name=""/>
              <p:cNvSpPr/>
              <p:nvPr/>
            </p:nvSpPr>
            <p:spPr>
              <a:xfrm>
                <a:off x="120600" y="3435480"/>
                <a:ext cx="8745120" cy="223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2000" y="3499200"/>
                <a:ext cx="8649360" cy="554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54800" y="2772360"/>
              <a:ext cx="2102040" cy="2152080"/>
              <a:chOff x="154800" y="2772360"/>
              <a:chExt cx="2102040" cy="2152080"/>
            </a:xfrm>
          </p:grpSpPr>
          <p:sp>
            <p:nvSpPr>
              <p:cNvPr id="228" name=""/>
              <p:cNvSpPr/>
              <p:nvPr/>
            </p:nvSpPr>
            <p:spPr>
              <a:xfrm rot="17970000">
                <a:off x="392040" y="3101040"/>
                <a:ext cx="1627200" cy="1494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7970000">
                <a:off x="560880" y="3728520"/>
                <a:ext cx="367200" cy="1096920"/>
              </a:xfrm>
              <a:custGeom>
                <a:avLst/>
                <a:gdLst/>
                <a:ahLst/>
                <a:rect l="l" t="t" r="r" b="b"/>
                <a:pathLst>
                  <a:path w="642" h="1919">
                    <a:moveTo>
                      <a:pt x="209" y="42"/>
                    </a:moveTo>
                    <a:cubicBezTo>
                      <a:pt x="59" y="125"/>
                      <a:pt x="0" y="338"/>
                      <a:pt x="1" y="551"/>
                    </a:cubicBezTo>
                    <a:cubicBezTo>
                      <a:pt x="2" y="764"/>
                      <a:pt x="132" y="1103"/>
                      <a:pt x="218" y="1319"/>
                    </a:cubicBezTo>
                    <a:cubicBezTo>
                      <a:pt x="304" y="1535"/>
                      <a:pt x="462" y="1771"/>
                      <a:pt x="518" y="1845"/>
                    </a:cubicBezTo>
                    <a:cubicBezTo>
                      <a:pt x="574" y="1919"/>
                      <a:pt x="594" y="1892"/>
                      <a:pt x="551" y="1761"/>
                    </a:cubicBezTo>
                    <a:cubicBezTo>
                      <a:pt x="508" y="1630"/>
                      <a:pt x="314" y="1260"/>
                      <a:pt x="259" y="1060"/>
                    </a:cubicBezTo>
                    <a:cubicBezTo>
                      <a:pt x="204" y="860"/>
                      <a:pt x="204" y="704"/>
                      <a:pt x="218" y="559"/>
                    </a:cubicBezTo>
                    <a:cubicBezTo>
                      <a:pt x="232" y="414"/>
                      <a:pt x="300" y="266"/>
                      <a:pt x="343" y="192"/>
                    </a:cubicBezTo>
                    <a:cubicBezTo>
                      <a:pt x="386" y="118"/>
                      <a:pt x="427" y="139"/>
                      <a:pt x="476" y="117"/>
                    </a:cubicBezTo>
                    <a:cubicBezTo>
                      <a:pt x="525" y="95"/>
                      <a:pt x="628" y="76"/>
                      <a:pt x="635" y="58"/>
                    </a:cubicBezTo>
                    <a:cubicBezTo>
                      <a:pt x="642" y="40"/>
                      <a:pt x="569" y="16"/>
                      <a:pt x="518" y="8"/>
                    </a:cubicBezTo>
                    <a:cubicBezTo>
                      <a:pt x="467" y="0"/>
                      <a:pt x="378" y="2"/>
                      <a:pt x="326" y="8"/>
                    </a:cubicBezTo>
                    <a:cubicBezTo>
                      <a:pt x="274" y="14"/>
                      <a:pt x="259" y="0"/>
                      <a:pt x="209" y="4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7970000">
                <a:off x="-2520" y="3398400"/>
                <a:ext cx="1379520" cy="360000"/>
              </a:xfrm>
              <a:custGeom>
                <a:avLst/>
                <a:gdLst/>
                <a:ahLst/>
                <a:rect l="l" t="t" r="r" b="b"/>
                <a:pathLst>
                  <a:path w="2411" h="630">
                    <a:moveTo>
                      <a:pt x="11" y="117"/>
                    </a:moveTo>
                    <a:cubicBezTo>
                      <a:pt x="41" y="92"/>
                      <a:pt x="124" y="20"/>
                      <a:pt x="250" y="10"/>
                    </a:cubicBezTo>
                    <a:cubicBezTo>
                      <a:pt x="375" y="0"/>
                      <a:pt x="545" y="18"/>
                      <a:pt x="765" y="58"/>
                    </a:cubicBezTo>
                    <a:cubicBezTo>
                      <a:pt x="986" y="100"/>
                      <a:pt x="1341" y="187"/>
                      <a:pt x="1574" y="256"/>
                    </a:cubicBezTo>
                    <a:cubicBezTo>
                      <a:pt x="1807" y="324"/>
                      <a:pt x="2032" y="415"/>
                      <a:pt x="2162" y="470"/>
                    </a:cubicBezTo>
                    <a:cubicBezTo>
                      <a:pt x="2293" y="525"/>
                      <a:pt x="2336" y="565"/>
                      <a:pt x="2359" y="586"/>
                    </a:cubicBezTo>
                    <a:cubicBezTo>
                      <a:pt x="2383" y="607"/>
                      <a:pt x="2411" y="630"/>
                      <a:pt x="2307" y="601"/>
                    </a:cubicBezTo>
                    <a:cubicBezTo>
                      <a:pt x="2204" y="573"/>
                      <a:pt x="1980" y="481"/>
                      <a:pt x="1741" y="415"/>
                    </a:cubicBezTo>
                    <a:cubicBezTo>
                      <a:pt x="1502" y="351"/>
                      <a:pt x="1100" y="251"/>
                      <a:pt x="874" y="212"/>
                    </a:cubicBezTo>
                    <a:cubicBezTo>
                      <a:pt x="648" y="173"/>
                      <a:pt x="495" y="169"/>
                      <a:pt x="382" y="179"/>
                    </a:cubicBezTo>
                    <a:cubicBezTo>
                      <a:pt x="269" y="189"/>
                      <a:pt x="256" y="269"/>
                      <a:pt x="198" y="270"/>
                    </a:cubicBezTo>
                    <a:cubicBezTo>
                      <a:pt x="140" y="271"/>
                      <a:pt x="62" y="212"/>
                      <a:pt x="31" y="187"/>
                    </a:cubicBezTo>
                    <a:cubicBezTo>
                      <a:pt x="0" y="162"/>
                      <a:pt x="15" y="132"/>
                      <a:pt x="11" y="117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7970000">
                <a:off x="870840" y="3358440"/>
                <a:ext cx="884880" cy="85860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7970000">
                <a:off x="661680" y="3655440"/>
                <a:ext cx="526680" cy="52128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4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333333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BA22-0E7E-4EFB-9D32-42540C4A01F2}" type="slidenum">
              <a:rPr b="0" lang="zh-TW" sz="1400" spc="-1" strike="noStrike">
                <a:solidFill>
                  <a:srgbClr val="333333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90000"/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GpjaoG9VbFk" TargetMode="External"/><Relationship Id="rId3" Type="http://schemas.openxmlformats.org/officeDocument/2006/relationships/hyperlink" Target="http://www.youtube.com/watch?v=VrVvRKdWZlw&amp;NR=1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youtube.com/watch?v=M4Dv4KHkSOc&amp;feature=related" TargetMode="External"/><Relationship Id="rId6" Type="http://schemas.openxmlformats.org/officeDocument/2006/relationships/hyperlink" Target="http://www.youtube.com/watch?v=M4Dv4KHkSOc&amp;feature=related" TargetMode="External"/><Relationship Id="rId7" Type="http://schemas.openxmlformats.org/officeDocument/2006/relationships/image" Target="../media/image1.png"/><Relationship Id="rId8" Type="http://schemas.openxmlformats.org/officeDocument/2006/relationships/hyperlink" Target="http://www.youtube.com/watch?v=KFFYBmuxbpE&amp;feature=related" TargetMode="External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hyperlink" Target="http://www.youtube.com/watch?v=ffKBnbfv4tE" TargetMode="External"/><Relationship Id="rId13" Type="http://schemas.openxmlformats.org/officeDocument/2006/relationships/image" Target="../media/image1.png"/><Relationship Id="rId14" Type="http://schemas.openxmlformats.org/officeDocument/2006/relationships/hyperlink" Target="http://www.youtube.com/watch?v=7I0Trp85EwM&amp;feature=related" TargetMode="External"/><Relationship Id="rId15" Type="http://schemas.openxmlformats.org/officeDocument/2006/relationships/image" Target="../media/image1.png"/><Relationship Id="rId16" Type="http://schemas.openxmlformats.org/officeDocument/2006/relationships/hyperlink" Target="http://www.youtube.com/watch?v=_jBq-lDSJ7w&amp;feature=related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280" y="1628280"/>
            <a:ext cx="7846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教學設計</a:t>
            </a: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&amp;</a:t>
            </a: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多媒體報告</a:t>
            </a:r>
            <a:br>
              <a:rPr sz="5400"/>
            </a:b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----</a:t>
            </a:r>
            <a:r>
              <a:rPr b="0" lang="zh-TW" sz="5400" spc="-1" strike="noStrike">
                <a:solidFill>
                  <a:srgbClr val="333333"/>
                </a:solidFill>
                <a:latin typeface="標楷體"/>
                <a:ea typeface="標楷體"/>
              </a:rPr>
              <a:t>擴增實境</a:t>
            </a:r>
            <a:endParaRPr b="0" lang="en-US" sz="5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 Narrow"/>
                <a:ea typeface="標楷體"/>
              </a:rPr>
              <a:t>指導教授：鄒景平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Arial Narrow"/>
                <a:ea typeface="標楷體"/>
              </a:rPr>
              <a:t>學　　生：楊美儀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rcRect l="13837" t="40196" r="15964" b="3138"/>
          <a:stretch/>
        </p:blipFill>
        <p:spPr>
          <a:xfrm>
            <a:off x="1187280" y="1197000"/>
            <a:ext cx="712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rcRect l="13914" t="17997" r="16322" b="12684"/>
          <a:stretch/>
        </p:blipFill>
        <p:spPr>
          <a:xfrm>
            <a:off x="1447920" y="836640"/>
            <a:ext cx="708336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rcRect l="13837" t="27639" r="16120" b="12431"/>
          <a:stretch/>
        </p:blipFill>
        <p:spPr>
          <a:xfrm>
            <a:off x="1042920" y="1268280"/>
            <a:ext cx="71121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5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7572"/>
                </a:solidFill>
                <a:latin typeface="Arial Narrow"/>
                <a:ea typeface="標楷體"/>
              </a:rPr>
              <a:t>應用範例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014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電子商務（</a:t>
            </a: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2"/>
              </a:rPr>
              <a:t>線上產品展示</a:t>
            </a: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或</a:t>
            </a: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3"/>
              </a:rPr>
              <a:t>線上購物</a:t>
            </a: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）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Arial Narrow"/>
                <a:ea typeface="標楷體"/>
                <a:hlinkClick r:id="rId5"/>
              </a:rPr>
              <a:t>互動式人體手術</a:t>
            </a:r>
            <a:r>
              <a:rPr b="0" lang="zh-TW" sz="2800" spc="-1" strike="noStrike" u="sng">
                <a:solidFill>
                  <a:srgbClr val="ccffff"/>
                </a:solidFill>
                <a:uFillTx/>
                <a:latin typeface="Arial Narrow"/>
                <a:ea typeface="標楷體"/>
                <a:hlinkClick r:id="rId6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8"/>
              </a:rPr>
              <a:t>設計評估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廠房規劃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售後服務及維修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12"/>
              </a:rPr>
              <a:t>教育</a:t>
            </a:r>
            <a:r>
              <a:rPr b="0" lang="zh-TW" sz="2800" spc="-1" strike="noStrike">
                <a:solidFill>
                  <a:srgbClr val="333333"/>
                </a:solidFill>
                <a:latin typeface="標楷體"/>
                <a:ea typeface="標楷體"/>
              </a:rPr>
              <a:t>訓練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14"/>
              </a:rPr>
              <a:t>電子魔法書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ccffff"/>
                </a:solidFill>
                <a:uFillTx/>
                <a:latin typeface="標楷體"/>
                <a:ea typeface="標楷體"/>
                <a:hlinkClick r:id="rId16"/>
              </a:rPr>
              <a:t>互動式科技藝術的創作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23:33:22Z</dcterms:created>
  <dc:creator>楊美儀</dc:creator>
  <dc:description/>
  <dc:language>en-US</dc:language>
  <cp:lastModifiedBy>楊美儀</cp:lastModifiedBy>
  <dcterms:modified xsi:type="dcterms:W3CDTF">2010-10-23T04:10:11Z</dcterms:modified>
  <cp:revision>3</cp:revision>
  <dc:subject/>
  <dc:title>投影片 1</dc:title>
</cp:coreProperties>
</file>